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598-73FA-4F6E-A637-D1203B35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987-7E23-4819-983C-48A062FC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B09-BD13-4E80-B78D-D7A2E4EF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206-49AE-4A4F-83F9-EE9243E9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6EB3-A140-4177-A036-6DB05591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CDCD-2E04-40F3-85D2-5865E519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5B8A-60A9-43B4-8A4E-FA3FE399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06B1-EB79-4550-9769-96A68F33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B784-8A2B-4042-A66F-15E04F6C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9392-67F1-4F31-ACC4-9355DFD7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B4FF-030F-48F3-A5AC-1939F909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59C-A7FB-44E6-940E-D7E60F95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C93C-0EAC-482C-85AC-7DE079B7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6125-6A07-4E7E-80EA-F4515802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146E-4F26-4671-ABD2-A4B6FA4F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F068-8C07-4194-A067-D315F562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AB3D-27BF-4DDE-BD6C-811C87A9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2ED-0E65-4E98-8605-6C18FDD2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B197-8D1A-4B33-9B9D-F7287004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AEF-6569-496D-9DDB-0EE40C14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01C-E29E-4FDE-869D-90E7DD29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761-0D8B-481D-82EF-B71CC865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0517-B58E-4BEF-AC72-F91D57EF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BBC1-8E6D-4403-9780-6A3BDE6A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B2C3-D131-4E71-8EA9-A4BA7B3C93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1898-A331-4EDF-8DDC-0EF02D95C3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hapter 7B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line Wr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opy E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py Editing - </a:t>
            </a:r>
            <a:r>
              <a:rPr b="0" i="1" lang="en-US" sz="4400" spc="-1" strike="noStrike">
                <a:solidFill>
                  <a:srgbClr val="b2b2b2"/>
                </a:solidFill>
                <a:latin typeface="Arial"/>
              </a:rPr>
              <a:t>Edit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graphs should flow log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ghten loose wr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py Editing - </a:t>
            </a:r>
            <a:r>
              <a:rPr b="0" i="1" lang="en-US" sz="4400" spc="-1" strike="noStrike">
                <a:solidFill>
                  <a:srgbClr val="b2b2b2"/>
                </a:solidFill>
                <a:latin typeface="Arial"/>
              </a:rPr>
              <a:t>Attribu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to attribute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already worked on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py Editing - </a:t>
            </a:r>
            <a:r>
              <a:rPr b="0" i="1" lang="en-US" sz="4400" spc="-1" strike="noStrike">
                <a:solidFill>
                  <a:srgbClr val="b2b2b2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st can be found on pages 180-18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inally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meticul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vigil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s we begin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made it (successfully) through the writing portion – now it is time to work on crafting the newspaper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adline Writ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ms almost impossible to write a good head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lines should be pulled from the l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don’t simply restate the lead ei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yles of Headli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ered (we do this a little b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sh-left/ragged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mmer Head – top line larger than bottom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cker – smaller headline above the main head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cket – not used much – several lines lead up to the main head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adline Ru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write in all-caps – only capitalize the first word and all proper nou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m all articles and unnecessar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s should always be in present t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infinitives for future t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allit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use play on words – don’t go over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ylistic Issues with Headli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split infinitives between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split people’s names between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split prepositions and phrase between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verbs of ‘to b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short word list on page 17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py Edit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strive for correctness and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our own stylebook to fo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for the following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lling – real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gling Mod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placed pronou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verb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re Copy Edit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for ways to enhance story coherence through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y editor should not make changes, however, just because he or she feels the need to do 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must be cause for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py Editing - </a:t>
            </a:r>
            <a:r>
              <a:rPr b="0" i="1" lang="en-US" sz="4400" spc="-1" strike="noStrike">
                <a:solidFill>
                  <a:srgbClr val="b2b2b2"/>
                </a:solidFill>
                <a:latin typeface="Arial"/>
              </a:rPr>
              <a:t>Accurac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know how to sp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also check facts with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y attention to the foll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minal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20:06:27Z</dcterms:created>
  <dc:creator>jvanengen</dc:creator>
  <dc:description/>
  <dc:language>en-US</dc:language>
  <cp:lastModifiedBy>Administrator</cp:lastModifiedBy>
  <dcterms:modified xsi:type="dcterms:W3CDTF">2009-04-14T20:22:01Z</dcterms:modified>
  <cp:revision>6</cp:revision>
  <dc:subject/>
  <dc:title>Chapter 7B</dc:title>
</cp:coreProperties>
</file>